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D13-AA08-421B-AB42-E99ECDBE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EE4-77DE-44FA-9A71-5721C0D1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145-5CCA-4FC1-9B93-5F03240A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7AD-ED00-4DE5-8905-6B387643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DDBE-DA58-4A11-9AD7-B27ACD53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B356-76B0-4457-8157-D3D592D4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4173-4D74-49C1-BCFF-BE33EC94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BCF4-7D06-4D73-8D6F-C80E385C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DB7F-5165-4874-8349-C1D7A34A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3D1B-8D3B-42A8-94FE-0E1ABDC9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E0A8-CA56-4DFB-9695-C188E66D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48C-AD2D-4DBE-B1FD-19DE7F35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D906-A08F-48AD-8AA4-D9E70E8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1014-A299-48E8-B5EC-41C40E1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BAD3-FDE2-4C45-B2BD-F26AA69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976-E8D3-4822-B33D-86FFCF8A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7E3F-2479-4B18-9497-848F61E3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668-E1C9-4FBA-A148-93C6634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5E4-E27C-48B2-B99D-22A916E5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CA5-98D7-466A-B813-30A35994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EC4-2C20-4FEA-A3A9-A0865A90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03F-A4FF-4892-B933-BBCA7C5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EAE-2E24-4758-A798-C656FF8B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7DC-19B5-42DF-87ED-EC58DD7C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867E-82DB-4BC6-A249-FAEAEC2D61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90C5-7393-4EFE-B2C9-294FFBB206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nellen.com/cybereng/lit_terms/metaphor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nglis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art of ch.1 together, discu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for first part of no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. 1 Journ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s: AR is due Thursday, worth a test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 will still be checking your DOL notebook once before the quarter 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ings to think about as we read ch.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ovel is considered a modern class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s with some mature issues, Cormier wanted it to be authentic to the way teenagers talk to each other, so there are some curse word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akes place in the early 197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is an allegory, meaning that it is a form of extended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etaph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in which objects, persons, and actions in a narrative, are equated with the meanings that lie outside the narrative itself. The underlying meaning has moral, social, religious, or political significance . (Some kind of bigger mea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2:55:55Z</dcterms:created>
  <dc:creator>Angie</dc:creator>
  <dc:description/>
  <dc:language>en-US</dc:language>
  <cp:lastModifiedBy>Angie</cp:lastModifiedBy>
  <dcterms:modified xsi:type="dcterms:W3CDTF">2009-09-29T03:53:14Z</dcterms:modified>
  <cp:revision>2</cp:revision>
  <dc:subject/>
  <dc:title>English</dc:title>
</cp:coreProperties>
</file>